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19.png" ContentType="image/png"/>
  <Override PartName="/ppt/media/image18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15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D4BF-5660-41A8-B038-60AF57985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DB73-8568-4BA1-A258-57976299E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DD47-7154-4F6E-81B4-7CD0B446E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9B7E-8D1B-4365-AE98-33E08B55A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6046-F9DA-4A4F-BCB6-54F03EDCE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2E3E-F402-46E1-B6A9-5D9D7B270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E67F-3940-4DB6-84F4-3F8FC5E3C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29C4-379E-4E18-ADAD-F066A628E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AD5A-EFCF-46A0-8C61-07485AA76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25FA-2EE1-4EB7-954C-9EC3C3B0B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7E86-31EE-483B-AA64-54B3A608D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CA17-0ABC-4CCD-A67A-9839B8CC9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80B7E-1352-4379-9254-B89E640204A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file:///unit%202%20language%20points1.ppt" TargetMode="External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2" name="White%20house4" descr=""/>
            <p:cNvPicPr/>
            <p:nvPr/>
          </p:nvPicPr>
          <p:blipFill>
            <a:blip r:embed="rId1"/>
            <a:stretch/>
          </p:blipFill>
          <p:spPr>
            <a:xfrm>
              <a:off x="4876920" y="3870360"/>
              <a:ext cx="4267080" cy="298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big%20ben1" descr=""/>
            <p:cNvPicPr/>
            <p:nvPr/>
          </p:nvPicPr>
          <p:blipFill>
            <a:blip r:embed="rId2"/>
            <a:stretch/>
          </p:blipFill>
          <p:spPr>
            <a:xfrm>
              <a:off x="0" y="57240"/>
              <a:ext cx="4876920" cy="365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london%20bridge" descr=""/>
            <p:cNvPicPr/>
            <p:nvPr/>
          </p:nvPicPr>
          <p:blipFill>
            <a:blip r:embed="rId3"/>
            <a:stretch/>
          </p:blipFill>
          <p:spPr>
            <a:xfrm>
              <a:off x="0" y="3733920"/>
              <a:ext cx="4876920" cy="3124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White%20house3" descr=""/>
            <p:cNvPicPr/>
            <p:nvPr/>
          </p:nvPicPr>
          <p:blipFill>
            <a:blip r:embed="rId4"/>
            <a:stretch/>
          </p:blipFill>
          <p:spPr>
            <a:xfrm>
              <a:off x="4876920" y="0"/>
              <a:ext cx="4267080" cy="388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 txBox="1"/>
            <p:nvPr/>
          </p:nvSpPr>
          <p:spPr>
            <a:xfrm>
              <a:off x="633240" y="2427120"/>
              <a:ext cx="7772400" cy="2678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Triangle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ff00"/>
                  </a:solidFill>
                  <a:latin typeface="华文行楷"/>
                </a:rPr>
                <a:t>English Around the World</a:t>
              </a:r>
              <a:endParaRPr b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华文行楷"/>
                <a:ea typeface="华文行楷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738520" y="674640"/>
              <a:ext cx="36576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0" spc="-1" strike="noStrike">
                  <a:solidFill>
                    <a:srgbClr val="33cc33"/>
                  </a:solidFill>
                  <a:latin typeface="Times New Roman"/>
                </a:rPr>
                <a:t>Unit 2</a:t>
              </a:r>
              <a:endParaRPr b="0" lang="en-US" sz="8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3" descr=""/>
          <p:cNvPicPr/>
          <p:nvPr/>
        </p:nvPicPr>
        <p:blipFill>
          <a:blip r:embed="rId1"/>
          <a:stretch/>
        </p:blipFill>
        <p:spPr>
          <a:xfrm>
            <a:off x="0" y="11160"/>
            <a:ext cx="9136080" cy="68292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609560" y="163440"/>
            <a:ext cx="6013440" cy="520560"/>
          </a:xfrm>
          <a:prstGeom prst="rect">
            <a:avLst/>
          </a:prstGeom>
          <a:solidFill>
            <a:srgbClr val="0099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American English and British Engli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65240" y="725400"/>
            <a:ext cx="8826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he differences between American English and British Engli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How come the differen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65240" y="1998720"/>
            <a:ext cx="882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Times New Roman"/>
              </a:rPr>
              <a:t>1.At first the language in Britain and America was the sa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5240" y="2517840"/>
            <a:ext cx="882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00"/>
                </a:solidFill>
                <a:latin typeface="Times New Roman"/>
              </a:rPr>
              <a:t>2.In 1776 America became an independent country.The language began to change.The language in America stayed the same,while the language in England chang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4360" y="376704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3.At the same time, British English and the American English stared borrowing words from other languages, ending up with different wor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65240" y="4991040"/>
            <a:ext cx="882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.In 1828 Noah Webster published the first American dictionary. And he changed the spelling of some wor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3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8" name=""/>
          <p:cNvGraphicFramePr/>
          <p:nvPr/>
        </p:nvGraphicFramePr>
        <p:xfrm>
          <a:off x="625320" y="901800"/>
          <a:ext cx="7813440" cy="5744880"/>
        </p:xfrm>
        <a:graphic>
          <a:graphicData uri="http://schemas.openxmlformats.org/drawingml/2006/table">
            <a:tbl>
              <a:tblPr/>
              <a:tblGrid>
                <a:gridCol w="3906720"/>
                <a:gridCol w="3906720"/>
              </a:tblGrid>
              <a:tr h="717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or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rrowed from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ld Fren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" name=""/>
          <p:cNvSpPr/>
          <p:nvPr/>
        </p:nvSpPr>
        <p:spPr>
          <a:xfrm>
            <a:off x="915840" y="114480"/>
            <a:ext cx="795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nglish borrowed from other langu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2" descr="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8342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44360" y="254160"/>
            <a:ext cx="8845560" cy="51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hat will you do if people don’t understand you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.Saying something one or two more times, slowly, often help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2.Maybe you are not pronouncing the word right. Try changing soun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3.Try to say the same thing but use different wor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Times New Roman"/>
              </a:rPr>
              <a:t>4.If you don’t know the exact word for an object, you can give a description of what it looks lik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5.Replace difficult words with simple 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0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4280" y="123840"/>
            <a:ext cx="9099720" cy="64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098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Listening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098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Listen carefully to the tape. Mr. Brown’s landlady has many house rules. Write down five of th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098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Example: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The landlday asked Mr Brown to put his coat in the clos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098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he landlady asked Mr Brow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098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.___________________________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098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.___________________________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098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.___________________________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098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4.___________________________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098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5.___________________________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10" descr=""/>
          <p:cNvPicPr/>
          <p:nvPr/>
        </p:nvPicPr>
        <p:blipFill>
          <a:blip r:embed="rId1"/>
          <a:stretch/>
        </p:blipFill>
        <p:spPr>
          <a:xfrm>
            <a:off x="0" y="0"/>
            <a:ext cx="90774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11240" y="133200"/>
            <a:ext cx="8966160" cy="66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999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plete the following sent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Emily asked Karen____________________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teacher asked Karen and Emily _____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____________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aren told the teacher that Emily had asked 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Ms Smith told Harry_____________________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rry asked Ms Smith ____________________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 also asked her ________________________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s Smith told Harry not___________________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336840" y="668160"/>
            <a:ext cx="519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3300"/>
                </a:solidFill>
                <a:latin typeface="Times New Roman"/>
              </a:rPr>
              <a:t>how to pronounce “kilometr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1240" y="1279440"/>
            <a:ext cx="89661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                                                                  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if there is anything th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they are not cl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16000" y="3024360"/>
            <a:ext cx="519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3300"/>
                </a:solidFill>
                <a:latin typeface="Times New Roman"/>
              </a:rPr>
              <a:t>how to pronounce “kilometr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459240" y="3678120"/>
            <a:ext cx="611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to take two pizzas to Mr. Thomps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516480" y="4254480"/>
            <a:ext cx="494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if she can spell the n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40120" y="4846680"/>
            <a:ext cx="505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if she can repeat the add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679920" y="5438880"/>
            <a:ext cx="588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to forget to buy her some ketchup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4" descr=""/>
          <p:cNvPicPr/>
          <p:nvPr/>
        </p:nvPicPr>
        <p:blipFill>
          <a:blip r:embed="rId1"/>
          <a:stretch/>
        </p:blipFill>
        <p:spPr>
          <a:xfrm>
            <a:off x="0" y="-1116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-22320" y="355680"/>
            <a:ext cx="9166320" cy="56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098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Make up A dialogue for three students and act it out in class, using the following expressions to help you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3098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3098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3333cc"/>
                </a:solidFill>
                <a:latin typeface="Times New Roman"/>
              </a:rPr>
              <a:t>Useful express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3098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0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Can you spell that, please?                    I beg your pard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0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Could you repeat that, please?              How do you say …in Englis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0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What do you mean by…?                       How do you pronounce…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0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Could you speak a bit slowly, please?     What does … mea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0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216080" y="201600"/>
            <a:ext cx="6748560" cy="764280"/>
          </a:xfrm>
          <a:prstGeom prst="rect">
            <a:avLst/>
          </a:prstGeom>
          <a:solidFill>
            <a:srgbClr val="0099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660033"/>
                </a:solidFill>
                <a:uFillTx/>
                <a:latin typeface="Times New Roman"/>
              </a:rPr>
              <a:t>English Around the Worl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MEETING1" descr=""/>
          <p:cNvPicPr/>
          <p:nvPr/>
        </p:nvPicPr>
        <p:blipFill>
          <a:blip r:embed="rId2"/>
          <a:stretch/>
        </p:blipFill>
        <p:spPr>
          <a:xfrm>
            <a:off x="200160" y="1098720"/>
            <a:ext cx="4027320" cy="2662200"/>
          </a:xfrm>
          <a:prstGeom prst="rect">
            <a:avLst/>
          </a:prstGeom>
          <a:ln w="0">
            <a:noFill/>
          </a:ln>
        </p:spPr>
      </p:pic>
      <p:pic>
        <p:nvPicPr>
          <p:cNvPr id="64" name="gong%20tong%20xue%20xi" descr=""/>
          <p:cNvPicPr/>
          <p:nvPr/>
        </p:nvPicPr>
        <p:blipFill>
          <a:blip r:embed="rId3"/>
          <a:stretch/>
        </p:blipFill>
        <p:spPr>
          <a:xfrm>
            <a:off x="6262560" y="4368960"/>
            <a:ext cx="2828880" cy="1888920"/>
          </a:xfrm>
          <a:prstGeom prst="rect">
            <a:avLst/>
          </a:prstGeom>
          <a:ln w="0">
            <a:noFill/>
          </a:ln>
        </p:spPr>
      </p:pic>
      <p:pic>
        <p:nvPicPr>
          <p:cNvPr id="65" name="iconr11" descr=""/>
          <p:cNvPicPr/>
          <p:nvPr/>
        </p:nvPicPr>
        <p:blipFill>
          <a:blip r:embed="rId4"/>
          <a:stretch/>
        </p:blipFill>
        <p:spPr>
          <a:xfrm>
            <a:off x="6210360" y="1138320"/>
            <a:ext cx="2492280" cy="2728800"/>
          </a:xfrm>
          <a:prstGeom prst="rect">
            <a:avLst/>
          </a:prstGeom>
          <a:ln w="0">
            <a:noFill/>
          </a:ln>
        </p:spPr>
      </p:pic>
      <p:pic>
        <p:nvPicPr>
          <p:cNvPr id="66" name="INDIA1" descr=""/>
          <p:cNvPicPr/>
          <p:nvPr/>
        </p:nvPicPr>
        <p:blipFill>
          <a:blip r:embed="rId5"/>
          <a:stretch/>
        </p:blipFill>
        <p:spPr>
          <a:xfrm>
            <a:off x="415800" y="4211640"/>
            <a:ext cx="2425680" cy="2506680"/>
          </a:xfrm>
          <a:prstGeom prst="rect">
            <a:avLst/>
          </a:prstGeom>
          <a:ln w="0">
            <a:noFill/>
          </a:ln>
        </p:spPr>
      </p:pic>
      <p:pic>
        <p:nvPicPr>
          <p:cNvPr id="67" name="South%20Afraic" descr=""/>
          <p:cNvPicPr/>
          <p:nvPr/>
        </p:nvPicPr>
        <p:blipFill>
          <a:blip r:embed="rId6"/>
          <a:stretch/>
        </p:blipFill>
        <p:spPr>
          <a:xfrm>
            <a:off x="3124080" y="4648320"/>
            <a:ext cx="2952720" cy="1941480"/>
          </a:xfrm>
          <a:prstGeom prst="rect">
            <a:avLst/>
          </a:prstGeom>
          <a:ln w="0">
            <a:noFill/>
          </a:ln>
        </p:spPr>
      </p:pic>
      <p:pic>
        <p:nvPicPr>
          <p:cNvPr id="68" name="White%20house1" descr=""/>
          <p:cNvPicPr/>
          <p:nvPr/>
        </p:nvPicPr>
        <p:blipFill>
          <a:blip r:embed="rId7"/>
          <a:stretch/>
        </p:blipFill>
        <p:spPr>
          <a:xfrm>
            <a:off x="4294080" y="3603600"/>
            <a:ext cx="182880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0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580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990880" y="131760"/>
            <a:ext cx="2743200" cy="855720"/>
          </a:xfrm>
          <a:prstGeom prst="rect">
            <a:avLst/>
          </a:prstGeom>
          <a:solidFill>
            <a:srgbClr val="0099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999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660033"/>
                </a:solidFill>
                <a:latin typeface="Times New Roman"/>
              </a:rPr>
              <a:t>Post- Reading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52280" y="657360"/>
            <a:ext cx="8508960" cy="54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197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1.Why is it becoming more and more important to have a good knowledge of English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197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197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197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.In which countries do we find most native speakers of English? Give the names of three countr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197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197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.Living in China you can use English every day in different situations. Give two examp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197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68120" y="1596960"/>
            <a:ext cx="897588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197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Because English is spoken and used all around the world.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ith so many people communicating in English</a:t>
            </a: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, it is becoming more and more important to have a knowledge of Englis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68120" y="3760920"/>
            <a:ext cx="8493120" cy="9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197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he United Kingdom, the United States of America, Canada, Australia, South Africa, Ireland and New Zeal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89000" y="5394240"/>
            <a:ext cx="8493120" cy="9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197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Times New Roman"/>
              </a:rPr>
              <a:t>We can use English when we are having an international meeting, having a business talk with our business partn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cloze-next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637320" y="2543040"/>
            <a:ext cx="457200" cy="3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DragWndBk" descr="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8342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23840" y="149400"/>
            <a:ext cx="9020160" cy="641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999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plete the Following summa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glish is a ________ ______all around the world. For more than 375million people in countries such as _______ and _______, English is their ______ ______. Another 375 million people _____ ______ as a second language. However, most people learn English at school as  a ______ _______. The English language __also ____ by most international organizations as their working language, as well as in inter-national _____ and _______. Most foreigners visiting China are either__________ or ______. If they cannot ______ Chinese, they use ______ to communicate with Chinese people. In global culture, for example the Internet or popular music, English is widely used. In the future we will be speaking Chinese with our_______, but we will be _______ English with people around the world for our wor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957320" y="771480"/>
            <a:ext cx="271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anguage    spo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410160" y="1166760"/>
            <a:ext cx="170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ustral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7160" y="1541520"/>
            <a:ext cx="138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an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755880" y="1500120"/>
            <a:ext cx="232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mother   tong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367000" y="1895400"/>
            <a:ext cx="261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earn  Englis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80040" y="2290680"/>
            <a:ext cx="282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foreign 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30720" y="2665440"/>
            <a:ext cx="44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405320" y="2665440"/>
            <a:ext cx="99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u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449360" y="3435480"/>
            <a:ext cx="10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r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41640" y="3429000"/>
            <a:ext cx="134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our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573200" y="3830760"/>
            <a:ext cx="21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usiness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735360" y="3830760"/>
            <a:ext cx="124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ouri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159680" y="3789360"/>
            <a:ext cx="13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pe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779560" y="42181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ngli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998880" y="5540400"/>
            <a:ext cx="102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61440" y="5311800"/>
            <a:ext cx="134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u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033800" y="5330880"/>
            <a:ext cx="122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08" descr=""/>
          <p:cNvPicPr/>
          <p:nvPr/>
        </p:nvPicPr>
        <p:blipFill>
          <a:blip r:embed="rId1"/>
          <a:stretch/>
        </p:blipFill>
        <p:spPr>
          <a:xfrm>
            <a:off x="17640" y="34920"/>
            <a:ext cx="90738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7640" y="141120"/>
            <a:ext cx="8875440" cy="66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299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WORD STU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1 closet                       A   a number f people or things that form m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than half of a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2 explain                    B  information and understanding about a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su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3 majority                  C  the s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4 mother tongue        D  a cupboard where you can put clot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5 equal                       E  to make something clear to understand b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describing or giving information about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6 communicate          F  native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7 knowledge              G  the activity of buying ,selling or exchang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oods or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8 trade                       H  to give information using speech, rad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signals or body mov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560600" y="843120"/>
            <a:ext cx="1111320" cy="2259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560600" y="1846440"/>
            <a:ext cx="1111320" cy="1722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560600" y="1164960"/>
            <a:ext cx="1111320" cy="1506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41720" y="3352680"/>
            <a:ext cx="430200" cy="11480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612800" y="2909880"/>
            <a:ext cx="1346400" cy="7700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12800" y="4788000"/>
            <a:ext cx="1059120" cy="11113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01680" y="5181480"/>
            <a:ext cx="1470240" cy="9684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1846080" y="1846440"/>
            <a:ext cx="1112760" cy="33350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big%20ben" descr=""/>
          <p:cNvPicPr/>
          <p:nvPr/>
        </p:nvPicPr>
        <p:blipFill>
          <a:blip r:embed="rId1"/>
          <a:stretch/>
        </p:blipFill>
        <p:spPr>
          <a:xfrm>
            <a:off x="5823000" y="61920"/>
            <a:ext cx="3279600" cy="4800600"/>
          </a:xfrm>
          <a:prstGeom prst="rect">
            <a:avLst/>
          </a:prstGeom>
          <a:ln w="0">
            <a:noFill/>
          </a:ln>
        </p:spPr>
      </p:pic>
      <p:pic>
        <p:nvPicPr>
          <p:cNvPr id="106" name="White%20house2" descr=""/>
          <p:cNvPicPr/>
          <p:nvPr/>
        </p:nvPicPr>
        <p:blipFill>
          <a:blip r:embed="rId2"/>
          <a:stretch/>
        </p:blipFill>
        <p:spPr>
          <a:xfrm>
            <a:off x="0" y="2414520"/>
            <a:ext cx="4357800" cy="30942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87200" y="231840"/>
            <a:ext cx="4532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3333cc"/>
                </a:solidFill>
                <a:latin typeface="Times New Roman"/>
              </a:rPr>
              <a:t>AMERICAN ENGLISH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254480" y="2712960"/>
            <a:ext cx="188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0000"/>
                </a:solidFill>
                <a:latin typeface="Times New Roman"/>
              </a:rPr>
              <a:t>AN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227560" y="4910040"/>
            <a:ext cx="391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3333cc"/>
                </a:solidFill>
                <a:latin typeface="Times New Roman"/>
              </a:rPr>
              <a:t>BRITISH    ENGLISH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6T06:40:01Z</dcterms:created>
  <dc:creator>zhangjunguang</dc:creator>
  <dc:description/>
  <dc:language>en-US</dc:language>
  <cp:lastModifiedBy>user</cp:lastModifiedBy>
  <dcterms:modified xsi:type="dcterms:W3CDTF">2003-08-10T09:18:41Z</dcterms:modified>
  <cp:revision>20</cp:revision>
  <dc:subject/>
  <dc:title>PowerPoint 演示文稿</dc:title>
</cp:coreProperties>
</file>